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6C4-07A3-42D3-BF54-EB32F85C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837-5E9F-4CE1-9A7D-01F5B92E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3D024-0153-4B20-B38B-F19F544D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71EE8-FF8C-4629-989D-17A20298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E7DA7-C6A5-451F-972A-DA484AEA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5EB71-E836-414A-ACA1-7F33396B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F2A56-974B-4A08-982A-0F364525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2B724-E1F6-4FAF-870D-01DD0D85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383EF-50AA-454F-83E8-2D0E27FB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E7BE2-3DD7-4C75-BE1A-711A273F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3F620-F051-4AB9-B8AA-36790BE7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B62C4-866A-4D74-B857-944A749F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046-7489-4F6C-9F8E-5542A641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86ACC-4CEC-4E52-9704-8A764E46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4E253-D117-4075-983C-2A217A18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DEC26-5A93-4761-B9BF-3CEE8E31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E5704-DCAE-4AD0-8978-F1A710CD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FA4BC-7042-4E6C-A140-2770D3F0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68617-B18C-4447-8858-385A9C53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22AD5-C6F2-4AB4-9D3E-BD9724F0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950E0-DF4A-4B4D-8917-45C83D5D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FFB73-8C5B-495B-B435-26399145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73711-09DD-4BA3-9985-E06FE43E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079-9263-41D6-800B-98FBA7C9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F62FD-89EB-4D4E-BE26-B2D5740E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7E206-B892-46AA-8609-D314DF95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D6C80-B58F-4AD2-BE18-18B8E485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9C568-6739-4468-9964-7F0AD21A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2F009-7CA0-4E28-BA58-AABABA00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8F904-2DA6-4DFF-AF44-F71FA279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FFA81-2135-47A9-9C27-B6ABB9DE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7D631-A26A-4AF1-8CB5-A58B189E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15365-10F6-400A-9423-A2767FA4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8A179-2863-4CBE-B511-C88CEF4D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B986-EA0E-4E9F-91A7-C456762F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0B673-C826-4298-9B41-55E26F70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86929-653B-43CA-8D95-FD0A3CAC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20D4C-0CFB-4F5E-938B-4C410A12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771BB-0BC7-4B19-A6D5-6AA19765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F04D2-15C2-400B-BAB3-AE34F8AA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15EB0-CEE9-4073-887C-EA056102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A2D42-7EB7-431C-8C05-5F677282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C9B9D-164C-4070-9273-D5C9E675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C47FB-BAAD-4893-8970-A3FE30E1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05A12-C630-4C55-834A-01141A11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771C-AFC2-478F-A139-1FBC028E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38318-C9B0-41A0-A94C-EB7F615F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B811A-A681-427F-AE60-3B2197FF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CC0F2-50CD-4F59-95F3-889CF7B7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7F806-0881-4944-B0CA-A86FB356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367EE-F018-4DD4-A9DE-957B5CF9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2134A-B8FD-4139-AD60-7B2DA6C6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5894B-2C30-4544-B4B1-6F8BE361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ED848-D00C-4BEA-BD13-837C0227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97BFF-248B-4447-AA0D-C8A738A5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E6209-545C-444B-9A25-65F72028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7941-DE7F-4B70-9B6C-F9239C76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19C1B-F145-4A06-8B82-8D51E543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3C422-5AF4-4DFC-92B4-9D572762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AADF9-39DC-458E-85B1-F9EACE1F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D1913-1FB4-4E26-838D-5C4C3203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0126F-F60B-40DE-B278-7C748A51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77BF1-EEBF-4E4E-9486-CFB637E1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3E83B-51B1-4935-AB9E-9D317CDB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31467-6E70-401B-9ADE-E16B8FE7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75AEB-08BF-4972-AE59-2D0C9339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8C667-3016-41D2-A9F0-34FA07C5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F850-5CEC-4E69-98AE-2DA50A51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7C5C3-1618-44F1-9CA9-70A4FB65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40C22-9438-4ED3-BE30-D2A16DEF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1E6C5-91A1-4F51-AF00-B2E9E680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2023E-75DF-481D-ABCE-0C38C83C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5B056-1AB5-45C6-8C76-F83C0C72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38835-768F-42CF-A2B1-42170CFC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0E371-7D8C-4186-B395-81DCE924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3487E-48FE-404B-AAB2-183D8BBC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C5507-44C6-4C95-89F7-E44F6ED0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B682C-6B7E-45FD-A056-326169AB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1BAC-A340-4A20-9AA4-3FC7EB25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49715-37CB-4E90-8FAE-183F2313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65B62-95D3-4B6D-8FAE-38A22AE4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072154-1203-4837-B0B8-C335A83D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BE712A-9465-403D-9A15-83657C98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DA066-F837-4BA6-9FCF-A122C600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83594-CF9E-46D4-A2F6-53E7ED91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7DBCD-A56F-4C3B-B7F5-2599966D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6A891-F00E-4A13-A0BE-CB8C1B41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CE722-79EF-480E-AB88-903C77BE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E2069-8A7A-46FF-A25E-25590947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AA1A-7B2F-492D-A4FA-0D32DA96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B7078-75BB-4D25-AB6D-2A5949F4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FDDE6D-84F6-42FB-9C3A-1991FF44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938B46-C9E6-423A-ABD9-EEBEF72C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CC678-6737-49C4-B146-848D4D6D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87F22-78EF-48AA-86BE-B6E3AF68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BBDCBB-E844-4E62-BE98-162E47AE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9AD2B-1326-42ED-BEBB-BA45A9F5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31109-865F-460D-8CC6-808FE4DE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BE630C-2FA5-4800-984D-F84F370C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1A27D5-2192-4852-BC05-9110CB91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EAD5-51F7-4349-8512-B59FF14C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6C18E-6305-4058-B424-1CC1EB63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291F89-E147-411B-8FAA-8EE54099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C05DC-156F-4097-A6B2-2B16D09A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F3191-E6D0-4696-BDA4-1C313298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BF670C-E79C-431A-8ACF-81EB76B6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1B9CD6-EF8E-4B32-9973-BF31F307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41ED52-073E-4299-87EA-11DDC02C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5DD1D7-22C9-41E4-8993-454460F5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9625C9-ECAB-49BC-8019-CCD2E202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A575F4-F0EA-43AB-B409-BB3ED654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E69-31BC-435D-B4E0-D4CEC821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8EA6-C717-4D54-8495-FB148AFA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86EB2-33FD-4C3B-9B56-199021D8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2B7845-C7B1-40C3-BD05-2F5CCA07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8E4DB-44FC-4DA8-855E-1A430D35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617BA-0519-475E-A098-E5D2750C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F0423-1D4A-4981-9A48-F8A6DF56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0F6F4E-E64E-498F-910D-BC85492C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A47D4-6FD3-4DB2-BB4D-20822C25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710A42-8A52-401C-8C66-4C1F3D0F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4A2C4-3807-4E7E-859E-6832951B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4CE632-7EA7-406B-9B3C-512F19BE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305C-85DB-4A32-9C79-51D4B792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CEBC79-B87F-41E0-9ABB-39051CDA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2375AE-A6CE-4857-BAAF-21939E35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20719-E01A-4DA5-B6A1-BBE4299E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A50222-626B-499C-8BBD-8D9199DC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3BB08E-EAC6-4E0B-AFBF-D9BF3C2A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8CC5F7-7E3D-475B-BF0C-E2A8CB3D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030EBF-3823-499E-9667-8E3A6C15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4EC1C7-37F1-476D-B669-9D1E9E13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7F9C54-3E29-48C5-8F9D-7AA3627A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594E4-37D3-4426-B031-07B119B5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40C6-83DB-44EC-8389-57A85F73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BE5FE8-C5A4-435B-9F5C-AE11D48B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60D3C0-5904-4DC8-AE88-1FADA8E3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4C078-9823-4141-A011-FCB4B4F9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93542-8A77-4697-BDE1-E1BACC69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A06111-B734-4B00-B534-D8433EAD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1DD59-A845-4640-94B5-6846686E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80183F-68B1-4FCA-AD73-0DAC461C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425F56-58F2-44F9-8F5D-A0EE5C7C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E023DB-A8DC-4295-AB89-D55DD653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18E738-A0E0-4954-AFD1-7E683232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D708-5461-446C-A86B-766EFFDE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BB4FE6-C098-476B-AC51-F609D265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9A6A96-3A13-4D08-9DCD-50671779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F5DB93-930A-4BF0-9FA8-97C8C99C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1096DC-3A29-4CCD-B30F-7F0C8CAE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CF1E08-1A36-4E5F-9D64-20017E3F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F33273-57DF-4668-B5B1-5BDB5FC3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039D43-318E-4709-991C-53FC6255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E9E2BD-81DB-4C56-B5DC-9C171F94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3496DE-F5C5-49C2-838C-43BDF5A8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9014B1-2626-4B0F-9283-E0D53300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B915-C6EA-46AA-954B-EFDEC66B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650179-B942-406D-BD11-1FEBF82D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CE5319-FCDA-4327-8A96-B0C2DBD7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13B4EA-CF02-4CD2-B76F-F360F987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53D52-EB61-40AD-A44F-2463F6B0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6395D2-83BA-4054-87D9-FE9ED695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156136-589C-4697-ABB0-81284DEB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28981-0F23-4B72-AFE9-CE7AD8FF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9D1059-CAA1-4FDA-BA08-504D738C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C957C-35C2-4B0D-B8F1-606512AE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8C761-4A3F-41EB-90F7-27EA9896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6923A3-BB41-4963-AC63-CF9F324D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3CA149-0497-4EC4-8B9E-FD2C9A90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B1BC80-E4D6-4360-9766-1CB987FD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9D4-DB3F-4356-A5E1-0925F998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1D35-29F6-46C1-9818-135D149A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7559-AF82-41F6-8F02-87D3BBC0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4DBC-CEFF-4674-875E-42916D54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FE14-1B5C-4C94-BAC9-DB8449EC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995A-B75C-4FF9-ACBD-92815ACE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6EC51-F811-4C9A-BA34-3B19FDB7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74DC-32A7-464F-AA69-C3591EC3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66370-D9F1-4D84-B698-4A78561F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640D4-0E1F-412A-9899-B0E77895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8787A-8B17-429B-AB81-2B172C17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38F6-F3B7-46A5-9D3D-74907760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91B1A-95B2-4BF5-94C8-82802EE7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D333B-1881-420C-813B-8DCF1EBD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9C4D5-C44C-4F12-9390-8D8C72FF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DEA-992C-4F6C-8F77-3A583D23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A9557-3240-45E0-A92E-4E0FC281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80E98-07F1-4BE0-B9A7-2F70ED41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13487-9F5D-42F8-BB82-9C6EC38B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97105-3ACA-4A10-B428-7CD6D724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8DF6C-4CCC-45D6-9685-67E85B8A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AA86B-37D3-434F-BFAE-6150EA15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1CEE5-0EA0-44BB-99CE-72B4DB8C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258D7-58B7-4666-81F3-EF3E0C41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0AD04-A9D4-4F26-9414-67C089F4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A53A5-C4D3-4DCF-862E-DD4D48DF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591-3CC2-479D-B60A-3E8A38AB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13E74-8084-4DFB-B04F-6B327C72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BBBBD-B40D-4C61-AA01-3770A8D3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2D82F-AC47-4ADD-8E19-12215215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E272C-2B1F-47EC-879E-2959AF2B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5254C-CAB9-4BB6-96D4-123637AA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C105F-5860-4ED0-BA79-A3576221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20F37-F67A-4B41-B020-512AB165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2C52C-1393-4335-9584-6667AC77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45DB1-F3D3-430C-A3E7-835A197C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48B03-67DE-4C24-A68B-D4CB153E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985-48EC-4A0C-BB29-CE8BD0A0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6591C-5CAD-4BF5-888D-27F9D348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2460C-BEA5-4C14-A85D-DCD1F1DF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C0BCB-81AE-4182-A532-9B53EB91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8EB26-1325-40B0-9B67-48E5E957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CB9F0-9E13-47C2-B9FB-2F2D61D9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44F3B-0635-413A-9725-6E1AA690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41DB6-8294-4C6B-9112-2DA97C70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E4ABC-605E-46BA-8EAC-081704ED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EB07C-553F-4D51-BB84-C390CFB1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62FD4-A09C-4E78-9E35-6E53A151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115-068B-4802-B079-2964E4B9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F87B1-43F5-4418-A667-135AEEEA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E641E-8C67-47AC-A6A1-A00390BB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43D7F-BBB5-4653-916F-3A54A972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3E3FA-0367-44B0-B6AC-76360219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B2C91-6175-406B-8A7A-CAB9CD7C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062B4-5AD6-4BE1-A75B-3127220D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AEFB5-0C0B-41B5-AC53-45CE47CB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04B2D-9518-4EF3-91EE-EF9DFB7C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BABFF-8C9D-4753-952A-795B5282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84734-2EF4-428A-AD9C-7B6D8742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97A-F599-41A1-91A0-DB1EB833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BC275-219A-4B1C-9AF0-0982BC7C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D6064-271C-4F14-91E6-CD1FDBC5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77394-E816-4F72-A75D-9E4F59A1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C8BA9-2387-4B45-9A6F-9F009050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E0B72-72F2-4F96-87D3-2B949D86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F5531-C88D-45B5-99AA-A394513E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3C1D7-F1B5-4882-A7C4-838D3B55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10B30-F953-4864-B7A7-6795CEDE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EF279-64F1-4471-A63F-F55EA6AB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1CF79-F136-467F-9822-D942FDF6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A8AB-7FCC-4F91-B539-EF499CDB2C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A15B-0389-4F2D-BFB0-31B43A5995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16BF-3FBB-4DDB-A044-E083117781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36DE-9191-4248-8178-43D3365F21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CF0B-D864-4A16-8C05-C0FD486114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8647-3CB2-42A4-8960-90553CE47E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5BF1-F544-439D-BA01-12E4CFFD66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8341-FFD3-4A13-8B5A-ED7C90F86F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5C8F-2571-4F64-922A-55BB901595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FF89-4A16-4672-927F-53F3C850F2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7F84-3298-4F51-AFE0-06AEFEFCF9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BC8A-1CF0-4F79-98D6-B3BBF74902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3342-6BE0-4FF6-AA50-E821225D23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CDC1-E574-48C9-976A-F55C131DA7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E559-9094-40BD-ABAD-A875790F25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6B3C-2D00-4A28-9C92-2348493811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322E-7C72-491C-82B0-7C8A123735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2464-2A67-40CD-AAEB-A7440A2556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473A-C6CE-45B5-9454-483F0B8909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5407-3C8F-4D9E-A63A-81D4E2B101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F0F7-9C0A-4A43-9998-7853029616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AA9F-9443-45F5-80E5-BFB79712EE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BB01-3115-4AF3-B2E6-9B6EF1C13E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C55D-26A6-4850-B150-4871D571F0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0F22-140E-4197-9AFC-7AB36E9F7F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C65C-AC8A-4610-87EA-74E6B39D0A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F9AB-8B22-460B-99F4-5560ADAE9A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0E07-1CE1-43F6-AC3E-12948149A2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A95A-24D4-4A8D-A870-8B36674C7A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FC0E-EC1A-4540-A976-01EC945EB1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A600-C085-4D17-8CC5-F323713F48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E321-012A-4A6A-83F8-A37B812864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AEE1-F071-4B85-A01F-C8AD47C5EF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D1A2-B680-4BE4-9F51-C96E65D665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D013-FE9D-4F1A-A5B6-734246D94A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F291-17A3-415F-AC2B-BA2E9DF38D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7BF1-8059-453B-B323-CF9ABA6410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8B8C-0E19-4CB2-B8D4-2759F407AE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C286-D3F6-450E-B1D8-D9BC102BFB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2662200" y="2232000"/>
            <a:ext cx="3819600" cy="98100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1285920" y="3560760"/>
            <a:ext cx="6572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图片 13313" descr=""/>
          <p:cNvPicPr/>
          <p:nvPr/>
        </p:nvPicPr>
        <p:blipFill>
          <a:blip r:embed="rId1"/>
          <a:stretch/>
        </p:blipFill>
        <p:spPr>
          <a:xfrm>
            <a:off x="423720" y="1338120"/>
            <a:ext cx="8296560" cy="4181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2"/>
          <a:stretch/>
        </p:blipFill>
        <p:spPr>
          <a:xfrm>
            <a:off x="971640" y="2262240"/>
            <a:ext cx="143964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4211640" y="2276640"/>
            <a:ext cx="1440000" cy="4489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1042920" y="4005360"/>
            <a:ext cx="14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5"/>
          <a:stretch/>
        </p:blipFill>
        <p:spPr>
          <a:xfrm>
            <a:off x="4529160" y="4019400"/>
            <a:ext cx="400356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6"/>
          <a:stretch/>
        </p:blipFill>
        <p:spPr>
          <a:xfrm>
            <a:off x="914400" y="4897440"/>
            <a:ext cx="3527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76" name="组合 14339"/>
          <p:cNvGrpSpPr/>
          <p:nvPr/>
        </p:nvGrpSpPr>
        <p:grpSpPr>
          <a:xfrm>
            <a:off x="179280" y="100080"/>
            <a:ext cx="8839440" cy="6521400"/>
            <a:chOff x="179280" y="100080"/>
            <a:chExt cx="8839440" cy="6521400"/>
          </a:xfrm>
        </p:grpSpPr>
        <p:pic>
          <p:nvPicPr>
            <p:cNvPr id="1077" name="图片 14337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858000" cy="48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图片 14338" descr=""/>
            <p:cNvPicPr/>
            <p:nvPr/>
          </p:nvPicPr>
          <p:blipFill>
            <a:blip r:embed="rId2"/>
            <a:stretch/>
          </p:blipFill>
          <p:spPr>
            <a:xfrm>
              <a:off x="179280" y="100080"/>
              <a:ext cx="8839440" cy="145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9" name="Picture 1" descr=""/>
          <p:cNvPicPr/>
          <p:nvPr/>
        </p:nvPicPr>
        <p:blipFill>
          <a:blip r:embed="rId3"/>
          <a:stretch/>
        </p:blipFill>
        <p:spPr>
          <a:xfrm>
            <a:off x="1332000" y="530064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4"/>
          <a:stretch/>
        </p:blipFill>
        <p:spPr>
          <a:xfrm>
            <a:off x="1403280" y="17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5"/>
          <a:stretch/>
        </p:blipFill>
        <p:spPr>
          <a:xfrm>
            <a:off x="1332000" y="350028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6"/>
          <a:stretch/>
        </p:blipFill>
        <p:spPr>
          <a:xfrm>
            <a:off x="1287360" y="4437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7"/>
          <a:stretch/>
        </p:blipFill>
        <p:spPr>
          <a:xfrm>
            <a:off x="1332000" y="622296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5" name="图片 22529" descr=""/>
          <p:cNvPicPr/>
          <p:nvPr/>
        </p:nvPicPr>
        <p:blipFill>
          <a:blip r:embed="rId1"/>
          <a:stretch/>
        </p:blipFill>
        <p:spPr>
          <a:xfrm>
            <a:off x="347760" y="927000"/>
            <a:ext cx="8448480" cy="52387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403280" y="2060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360440" y="2924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403280" y="38178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476360" y="4724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403280" y="56037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21505" descr=""/>
          <p:cNvPicPr/>
          <p:nvPr/>
        </p:nvPicPr>
        <p:blipFill>
          <a:blip r:embed="rId1"/>
          <a:stretch/>
        </p:blipFill>
        <p:spPr>
          <a:xfrm>
            <a:off x="281160" y="1709640"/>
            <a:ext cx="8581680" cy="3438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20481" descr=""/>
          <p:cNvPicPr/>
          <p:nvPr/>
        </p:nvPicPr>
        <p:blipFill>
          <a:blip r:embed="rId1"/>
          <a:stretch/>
        </p:blipFill>
        <p:spPr>
          <a:xfrm>
            <a:off x="471600" y="758880"/>
            <a:ext cx="8200800" cy="5838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826920" y="43070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8193" descr=""/>
          <p:cNvPicPr/>
          <p:nvPr/>
        </p:nvPicPr>
        <p:blipFill>
          <a:blip r:embed="rId1"/>
          <a:stretch/>
        </p:blipFill>
        <p:spPr>
          <a:xfrm>
            <a:off x="1014480" y="928800"/>
            <a:ext cx="7115040" cy="50004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332000" y="981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332000" y="365904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9217" descr=""/>
          <p:cNvPicPr/>
          <p:nvPr/>
        </p:nvPicPr>
        <p:blipFill>
          <a:blip r:embed="rId1"/>
          <a:stretch/>
        </p:blipFill>
        <p:spPr>
          <a:xfrm>
            <a:off x="709560" y="1333440"/>
            <a:ext cx="7724880" cy="4191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2411280" y="4091040"/>
            <a:ext cx="1440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0241" descr=""/>
          <p:cNvPicPr/>
          <p:nvPr/>
        </p:nvPicPr>
        <p:blipFill>
          <a:blip r:embed="rId1"/>
          <a:stretch/>
        </p:blipFill>
        <p:spPr>
          <a:xfrm>
            <a:off x="776160" y="1762200"/>
            <a:ext cx="7591680" cy="33336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1979640" y="1816200"/>
            <a:ext cx="1297080" cy="449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1908000" y="3573360"/>
            <a:ext cx="1297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2289" descr=""/>
          <p:cNvPicPr/>
          <p:nvPr/>
        </p:nvPicPr>
        <p:blipFill>
          <a:blip r:embed="rId1"/>
          <a:stretch/>
        </p:blipFill>
        <p:spPr>
          <a:xfrm>
            <a:off x="1366920" y="1752480"/>
            <a:ext cx="6410160" cy="33530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2556000" y="1816200"/>
            <a:ext cx="1008000" cy="449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2556000" y="3557520"/>
            <a:ext cx="1008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1265" descr=""/>
          <p:cNvPicPr/>
          <p:nvPr/>
        </p:nvPicPr>
        <p:blipFill>
          <a:blip r:embed="rId1"/>
          <a:stretch/>
        </p:blipFill>
        <p:spPr>
          <a:xfrm>
            <a:off x="81000" y="828720"/>
            <a:ext cx="8982000" cy="52005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1476360" y="2751120"/>
            <a:ext cx="151128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5364000" y="2781360"/>
            <a:ext cx="338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4"/>
          <a:stretch/>
        </p:blipFill>
        <p:spPr>
          <a:xfrm>
            <a:off x="1332000" y="3630600"/>
            <a:ext cx="2087640" cy="449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5"/>
          <a:stretch/>
        </p:blipFill>
        <p:spPr>
          <a:xfrm>
            <a:off x="2700360" y="5402160"/>
            <a:ext cx="5543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8:29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